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6FEA-7F5B-4135-8525-F6FCF34F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E00D-2043-4986-ADC7-03D9E81C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00BE3-1C64-499E-B27F-7B0DE1E9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3373A-55E6-4636-AB4F-94FD4ED3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2B8D36-4F06-4AB9-B143-98560724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CE49C-F1C8-4A6D-885B-6294BD92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E7140-1F8F-4D8B-AEA2-497B4E31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1A17A-D834-4D5B-8AFC-B35950AC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D322D-1DA5-4BF6-9C91-AE3D9CDD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401E3-D23E-4419-B2D7-5DAA349F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8E3FD-A0CA-4ADF-BE42-C0649FA5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893C5E-0A7A-4C4E-8926-613DFAEA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3F00-2692-4984-B1A4-03D51783D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E8E0A-0407-4788-BCB1-937EE84D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C3846-FE4D-43BE-BEF8-C326A175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E7680-EFB2-47F0-97A6-313218B2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2F0EF-740F-4333-8E9F-FF94E658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DFEEF-685D-4D09-8FBD-2CD216D36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376AF-DF81-47AE-8F44-3D6E1D45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33719-BD12-4FF6-ADD5-E8E8897A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5D5EB-9BD3-41C8-AECC-11701CCE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2ED68-2D61-4414-92C2-C172AA03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3E5CC6-8D7F-4602-B70D-99069BB8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5DD0-1947-4F45-B97D-2E5BD9FA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2938B3-E97F-406D-8AB4-1E2F4FBA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B6274-611A-42BE-AA52-CEEAA724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1AA280-1822-4F1A-AF45-D623DDDB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2A2E2-0929-4603-B0E2-76BCAE2B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42DB9-B0EA-4464-8A50-86393823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97A9E-C764-40E9-B40E-C5A3A2E3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8BDAF-6C64-488D-A3CE-BF313124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E5894-AFF1-4645-AD71-8D32E0C7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87BFD9-EFD8-4FB4-AC76-11365155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BBDE7-E80A-4481-9AD8-8A21F9C28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543C-4E44-4602-B9D6-AD84F810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4E9EA-C4A7-428B-8738-A8494B47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477CFC-EB24-4FF5-8E69-89A92A35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424EDD-D17C-415B-AB26-D5C910F2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60401-DDE5-40CE-835C-CCACE572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396B01-926E-4791-BB3C-7E9E7774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3BCA4-7712-4B35-8D39-58115104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C342C-85FC-4A3B-8680-0465486C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A6785-875F-4315-ABA1-DD9FE22C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60669-359E-4018-87C6-9039D476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9B7DA-BE3A-4DE8-A855-D987A142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33EA-08DB-407E-9FAF-01BB810A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E04EA2-1D40-4A2A-B615-CE12C3E6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D151C-5B4A-492C-B7A6-7B15A445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38336-F5F7-4559-B319-82A44F85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5AD44-368C-4D92-8228-4AC48A22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27531-EEB2-4217-A9E4-3921C72C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71A9-BEBF-4E0E-A3BC-72652F52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310B-4AB5-42F3-BF10-A346C45C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A6DD-E6D5-4ED0-A865-659E5CA2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D96E-05F0-4448-B3C0-0E32970E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B95B-AA6B-42B6-B64E-667E8F34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19E4-F3F0-4FD2-82C4-91C2DCC7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9D00-F4B1-4BB4-A42D-FC3F1857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DFC9-B711-4A8F-8822-557D9D3C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E68B-9395-4313-8462-35F82CF0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42CA-B557-4E54-92B5-C75B77E42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CB1B-C063-4917-B55D-26FA0129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C6110-F50C-4F33-BBC2-1E86FF37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B78F8-69B6-4D54-949C-48A13A49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D2D8D-A314-4113-9450-314777CD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2186E-D2FD-46DA-861E-0D96BEB6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A0C1E-17AD-44FB-B5EF-51948E44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14B-5ED3-4CCB-95E5-0E6D0C37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95022-F555-419C-8E42-19F1B7AF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E9A11-B5DE-4C17-A12E-1B6C9FCA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D5375-C0C5-48D8-A6AE-2A48F53E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7B667-9944-4DED-84B2-C46E6D42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97DB7-1BC5-462F-BB82-C7E2A17C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92E4E-81B3-4E4A-B34B-C377F2FE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4F71A-82CE-4290-81BE-54166297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DD029-ACF5-499F-8ADE-C836E393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875FA-5E01-45C9-BD75-DCEAA57E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C8E81-3853-43E7-BE8E-57CF738A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8BB-C0BE-4468-AC32-40261AF5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C4C86-0112-40EB-B983-6C4EF275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10842-322F-4B11-B4C8-FDBA68E8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5D65F-1135-4313-8FAF-B9EE573E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84DDC-3BC3-4FAF-B0E2-16BF95BA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12C32-301F-4D5E-9B1E-0EC1BFA6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751A7-81ED-4E6C-BD94-D441C15B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70FA0-A986-4810-B541-57623415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EDECA-3408-44C7-8746-3C261F63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E8E62-C0F1-4949-8A46-A705DB80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F1177-1390-4B33-B112-DE764B6D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63A0-E0A3-4A66-967D-CAB4219E1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3A498-134D-47B2-87D0-0F6311439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AA2C8-5E02-462C-84FA-B9A578A8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D90EE-6EFC-4A97-9F6A-C45EA2C0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113F4-48E6-403A-BB36-C78F55CCD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0B263-DD99-4BDC-8995-4D820977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198B2-C4EF-43BE-AD16-4BF4B635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99210-056F-4605-94F8-EE6E8D72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EE7E0-A94E-4A66-B3C9-98A86BF5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3127F-6380-4261-9312-09565675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11A1F-5B86-49C3-A85B-790DFE8C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EAC0-FE11-4897-8C50-86833C5B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B6927-4655-4BC3-A1E4-3B35D917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7703F-5F21-4549-B0B9-79F43D0D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38ED1-C828-490B-A18E-3ECDD478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09104-8024-42D1-9C4E-739738CB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0EA58-8F3E-4398-B98D-7B5A064F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4D9CD-5376-465A-8E70-D1580B89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D30C1-0DBC-4E03-8E05-5888E062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0CB08-E850-48E1-B16F-BBA79CB2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F914A-1DE2-47CB-97A7-B7CA5D3D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9B0DA-B5D1-46FA-965E-425F2A84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2EB7-E7B4-44B8-9F02-0166DBE8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0E9D2-748D-47E7-A20C-ADDC142A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1769D-A3A0-43BA-9E55-E848C4CF6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E8A55-F665-4854-90F1-38122807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8F859-7ED5-4187-812E-155A584A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8A584-9338-42EF-89F7-60F8C3C5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4A434-1433-4F05-A3C5-73E5FF88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9C42F-C9D7-48D9-A71E-F68C24E2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76298-9D16-4789-918B-0E177ADE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756BF-1FBA-4AB8-952A-03CC5676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88417-341A-4A30-8FBF-420B4D2E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9121-93C1-4A1D-912E-986F9119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7A34F-DD2B-4251-B938-234F20D5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0C80E-981C-4927-9316-56FBE5AE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DBCFA-F937-4759-B064-285EFBB2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FFCBB-D608-44F6-B711-D84B66E7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5D86D-B19A-4767-9C15-A50560466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C71FC-19EE-4CA0-B9C8-CA10627C4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CAE2A-E318-4798-B3D3-BCBFA273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88953-AB63-498A-AFAE-0777483C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957F2-E8C8-47F8-83F4-802DE998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E6D73-EF7D-448C-A6BE-E9D36E07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BBC-D54B-431B-8B90-03F670D0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73633-F6AD-4D75-8E28-0DA073E9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02A3E-A70B-4BED-85B3-191B2BEF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AFA69-DC00-4D21-8CD4-EAF50BFD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DF242-708E-445C-9E1F-D769574E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964E2-EE65-41A4-BDAE-6D496C18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0AEBF-9807-4A19-A5AA-21B56C7AE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E7555-D490-4243-B02F-C7823A95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ADF99-2E80-4AD4-B175-9FDCBFF0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FD093-D543-42E0-922B-A15C97A6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B99B9-5A8B-4051-A288-4AFEBBFE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662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662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662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2662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2662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2663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2663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8FF2-9AAB-46AC-A2B9-9E219B6EC65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71BC-3927-48C7-8089-E02390E3133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BF0B-D379-4F91-8978-7C08238F534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9990-467D-4E9F-8F87-3875B6CD4B3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2764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2765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765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765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765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765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2765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46ED-E469-4833-ACB5-A15E3A24B87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19B8-2EF2-4520-8BB8-9E0CDE05F43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D5A7-C873-491D-A30D-A47331A5866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C5DF-332D-4CF7-9645-544F92C53F0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9AE1-ABFB-457D-89BC-12513B2E1948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36EB-D090-47C2-A213-71FF4043813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84CF-3B71-4CFD-8009-00B3CA3D30A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9815-CD35-41A3-AA9F-601B3E77657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文本框 3076"/>
          <p:cNvSpPr/>
          <p:nvPr/>
        </p:nvSpPr>
        <p:spPr>
          <a:xfrm>
            <a:off x="1357920" y="593640"/>
            <a:ext cx="2009160" cy="62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花 牛 歌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徐志摩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）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17413" descr="cb3cc63d4a3fefd09e3d62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0560" y="-4569120"/>
            <a:ext cx="20628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68360" y="259920"/>
            <a:ext cx="5986800" cy="659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花牛在草地里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压扁了一穗剪秋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花牛在草地里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白云霸占了半个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花牛在草地里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小尾巴甩得溜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花牛在草地里做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太阳偷渡了西山的青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17411"/>
          <p:cNvSpPr/>
          <p:nvPr/>
        </p:nvSpPr>
        <p:spPr>
          <a:xfrm>
            <a:off x="1376280" y="1341360"/>
            <a:ext cx="4590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文本框 17412"/>
          <p:cNvSpPr/>
          <p:nvPr/>
        </p:nvSpPr>
        <p:spPr>
          <a:xfrm>
            <a:off x="703800" y="1197000"/>
            <a:ext cx="1582200" cy="46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花牛歌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（徐志摩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图片 18437" descr="cb3cc63d4a3fefd09e3d62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560" y="-4569120"/>
            <a:ext cx="20628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700000" y="259920"/>
            <a:ext cx="5986440" cy="659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花牛在草地里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压扁了一穗剪秋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花牛在草地里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白云霸占了半个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花牛在草地里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小尾巴甩得溜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花牛在草地里做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太阳偷渡了西山的青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18435"/>
          <p:cNvSpPr/>
          <p:nvPr/>
        </p:nvSpPr>
        <p:spPr>
          <a:xfrm>
            <a:off x="1376280" y="1341360"/>
            <a:ext cx="4590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文本框 18436"/>
          <p:cNvSpPr/>
          <p:nvPr/>
        </p:nvSpPr>
        <p:spPr>
          <a:xfrm>
            <a:off x="703800" y="1197000"/>
            <a:ext cx="1582200" cy="46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花牛歌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（徐志摩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淘气的花牛在草地里发生了很多有趣的事？聪明的你知道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图片 9219" descr="u=688488195,351800593&amp;fm=0&amp;gp=0"/>
          <p:cNvPicPr/>
          <p:nvPr/>
        </p:nvPicPr>
        <p:blipFill>
          <a:blip r:embed="rId1"/>
          <a:stretch/>
        </p:blipFill>
        <p:spPr>
          <a:xfrm>
            <a:off x="3635280" y="3400560"/>
            <a:ext cx="4824360" cy="34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图片 20481" descr="cb3cc63d4a3fefd09e3d62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-4569120"/>
            <a:ext cx="20628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268360" y="259920"/>
            <a:ext cx="5986800" cy="659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花牛在草地里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压扁了一穗剪秋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花牛在草地里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白云霸占了半个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花牛在草地里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小尾巴甩得溜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花牛在草地里做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太阳偷渡了西山的青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0484"/>
          <p:cNvSpPr/>
          <p:nvPr/>
        </p:nvSpPr>
        <p:spPr>
          <a:xfrm>
            <a:off x="1376280" y="1341360"/>
            <a:ext cx="4590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2" name="文本框 20485"/>
          <p:cNvSpPr/>
          <p:nvPr/>
        </p:nvSpPr>
        <p:spPr>
          <a:xfrm>
            <a:off x="703800" y="1197000"/>
            <a:ext cx="1582200" cy="46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花牛歌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（徐志摩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牛在草地里坐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压扁了一穗剪秋萝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图片 4099" descr="2136bb0c-24544c"/>
          <p:cNvPicPr/>
          <p:nvPr/>
        </p:nvPicPr>
        <p:blipFill>
          <a:blip r:embed="rId1"/>
          <a:stretch/>
        </p:blipFill>
        <p:spPr>
          <a:xfrm>
            <a:off x="2916360" y="3809880"/>
            <a:ext cx="2286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图片 21507" descr="200572013142630430"/>
          <p:cNvPicPr/>
          <p:nvPr/>
        </p:nvPicPr>
        <p:blipFill>
          <a:blip r:embed="rId1"/>
          <a:stretch/>
        </p:blipFill>
        <p:spPr>
          <a:xfrm>
            <a:off x="0" y="0"/>
            <a:ext cx="4716360" cy="3573360"/>
          </a:xfrm>
          <a:prstGeom prst="rect">
            <a:avLst/>
          </a:prstGeom>
          <a:ln w="0">
            <a:noFill/>
          </a:ln>
        </p:spPr>
      </p:pic>
      <p:pic>
        <p:nvPicPr>
          <p:cNvPr id="512" name="图片 21510" descr="13355110R-0"/>
          <p:cNvPicPr/>
          <p:nvPr/>
        </p:nvPicPr>
        <p:blipFill>
          <a:blip r:embed="rId2"/>
          <a:stretch/>
        </p:blipFill>
        <p:spPr>
          <a:xfrm>
            <a:off x="4648320" y="2924280"/>
            <a:ext cx="4495680" cy="421632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21508" descr="05300000471080125267195692523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21509" descr="C81628166"/>
          <p:cNvPicPr/>
          <p:nvPr/>
        </p:nvPicPr>
        <p:blipFill>
          <a:blip r:embed="rId4"/>
          <a:stretch/>
        </p:blipFill>
        <p:spPr>
          <a:xfrm>
            <a:off x="0" y="3429000"/>
            <a:ext cx="4716360" cy="3645000"/>
          </a:xfrm>
          <a:prstGeom prst="rect">
            <a:avLst/>
          </a:prstGeom>
          <a:ln w="0">
            <a:noFill/>
          </a:ln>
        </p:spPr>
      </p:pic>
      <p:sp>
        <p:nvSpPr>
          <p:cNvPr id="515" name="文本框 21511"/>
          <p:cNvSpPr/>
          <p:nvPr/>
        </p:nvSpPr>
        <p:spPr>
          <a:xfrm>
            <a:off x="3348000" y="2852640"/>
            <a:ext cx="3240000" cy="109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6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剪 秋 萝</a:t>
            </a:r>
            <a:endParaRPr b="0" i="1" lang="en-US" sz="6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牛在草地里眠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白云霸占了半个天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图片 6147" descr="t6aul2dq"/>
          <p:cNvPicPr/>
          <p:nvPr/>
        </p:nvPicPr>
        <p:blipFill>
          <a:blip r:embed="rId1"/>
          <a:stretch/>
        </p:blipFill>
        <p:spPr>
          <a:xfrm>
            <a:off x="1547640" y="1989000"/>
            <a:ext cx="7236000" cy="4869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牛在草地里走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尾巴甩得溜溜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7171" descr="042589c7-84545c"/>
          <p:cNvPicPr/>
          <p:nvPr/>
        </p:nvPicPr>
        <p:blipFill>
          <a:blip r:embed="rId1"/>
          <a:stretch/>
        </p:blipFill>
        <p:spPr>
          <a:xfrm>
            <a:off x="1008000" y="620640"/>
            <a:ext cx="8136000" cy="62373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牛在草地里做梦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太阳偷渡了西山的青峰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图片 8199" descr="cb3cc63d4a3fefd09e3d62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-4569120"/>
            <a:ext cx="20628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411280" y="259920"/>
            <a:ext cx="6275520" cy="659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花牛在草地里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压扁了一穗剪秋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花牛在草地里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白云霸占了半个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花牛在草地里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小尾巴甩得溜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花牛在草地里做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太阳偷渡了西山的青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8197"/>
          <p:cNvSpPr/>
          <p:nvPr/>
        </p:nvSpPr>
        <p:spPr>
          <a:xfrm>
            <a:off x="1376280" y="1341360"/>
            <a:ext cx="4590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文本框 8198"/>
          <p:cNvSpPr/>
          <p:nvPr/>
        </p:nvSpPr>
        <p:spPr>
          <a:xfrm>
            <a:off x="703800" y="1197000"/>
            <a:ext cx="1582200" cy="46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花牛歌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（徐志摩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图片 15365" descr="cb3cc63d4a3fefd09e3d62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560" y="-4569120"/>
            <a:ext cx="20628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410920" y="259920"/>
            <a:ext cx="5986440" cy="659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花牛在草地里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压扁了一穗剪秋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花牛在草地里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白云霸占了半个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花牛在草地里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小尾巴甩得溜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花牛在草地里做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太阳偷渡了西山的青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文本框 15363"/>
          <p:cNvSpPr/>
          <p:nvPr/>
        </p:nvSpPr>
        <p:spPr>
          <a:xfrm>
            <a:off x="1376280" y="1341360"/>
            <a:ext cx="4590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文本框 15364"/>
          <p:cNvSpPr/>
          <p:nvPr/>
        </p:nvSpPr>
        <p:spPr>
          <a:xfrm>
            <a:off x="703800" y="1197000"/>
            <a:ext cx="1582200" cy="46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花牛歌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（徐志摩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图片 16389" descr="cb3cc63d4a3fefd09e3d62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0560" y="-4569120"/>
            <a:ext cx="206280" cy="94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339640" y="259920"/>
            <a:ext cx="5986440" cy="659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花牛在草地里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压扁了一穗剪秋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花牛在草地里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白云霸占了半个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花牛在草地里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小尾巴甩得溜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花牛在草地里做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ff00"/>
                </a:solidFill>
                <a:latin typeface="Arial"/>
              </a:rPr>
              <a:t>太阳偷渡了西山的青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6387"/>
          <p:cNvSpPr/>
          <p:nvPr/>
        </p:nvSpPr>
        <p:spPr>
          <a:xfrm>
            <a:off x="1376280" y="1341360"/>
            <a:ext cx="459000" cy="31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文本框 16388"/>
          <p:cNvSpPr/>
          <p:nvPr/>
        </p:nvSpPr>
        <p:spPr>
          <a:xfrm>
            <a:off x="848160" y="1197000"/>
            <a:ext cx="1582200" cy="4608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花牛歌</a:t>
            </a:r>
            <a:r>
              <a:rPr b="0" i="1" lang="zh-CN" sz="3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（徐志摩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08:33:18Z</dcterms:created>
  <dc:creator/>
  <dc:description/>
  <dc:language>en-US</dc:language>
  <cp:lastModifiedBy>万润仪器贸易公司</cp:lastModifiedBy>
  <dcterms:modified xsi:type="dcterms:W3CDTF">2020-08-24T03:32:39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